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EEC86-12D2-4B55-99BD-86E5E38D5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5C3C-DF30-4AAD-B3AE-6CCE0B278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9B5BD-76AE-4D86-AADB-10234F14D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D158D-11CD-46A3-87CB-D8889C7AB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729E1-434F-44E8-B57C-503B5BAF9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D1F9-4F0A-420E-86E9-0D336875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E7C2-39BF-466A-AD01-B4205B80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A9F5-4052-47AA-B36F-12F679433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53F0-1513-41E6-A2A5-796B6084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CF91-7F5E-46C7-8617-DF1C631A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77F7-C782-415B-BF77-09A6CF3E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7EB4-A0F9-4A98-AA77-1195A80EB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68FE-1ED4-4A13-9ADE-EDD5F2B07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533520"/>
            <a:ext cx="7619760" cy="58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Black"/>
              </a:rPr>
              <a:t>Kerberos</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u="sng">
                <a:solidFill>
                  <a:srgbClr val="000000"/>
                </a:solidFill>
                <a:uFillTx/>
                <a:latin typeface="Times New Roman"/>
              </a:rPr>
              <a:t>Co to jest ?</a:t>
            </a:r>
            <a:r>
              <a:rPr b="0" lang="pl-PL" sz="2400" spc="-1" strike="noStrike">
                <a:solidFill>
                  <a:srgbClr val="000000"/>
                </a:solidFill>
                <a:latin typeface="Times New Roman"/>
              </a:rPr>
              <a:t> -</a:t>
            </a:r>
            <a:r>
              <a:rPr b="0" lang="pl-PL" sz="2400" spc="-1" strike="noStrike">
                <a:solidFill>
                  <a:srgbClr val="3333cc"/>
                </a:solidFill>
                <a:latin typeface="Times New Roman"/>
              </a:rPr>
              <a:t> </a:t>
            </a:r>
            <a:r>
              <a:rPr b="0" lang="pl-PL" sz="2400" spc="-1" strike="noStrike">
                <a:solidFill>
                  <a:srgbClr val="000000"/>
                </a:solidFill>
                <a:latin typeface="Times New Roman"/>
              </a:rPr>
              <a:t>Jest stworzonym i opracowany w 1980 roku w laboratorium komputerowym MIT (Massachusetts Institute of Technology) sieciowym protokołem uwierzytelniania z tajnym kluczem, używającym kryptograficznego algorytmu DES do szyfrowania i uwierzytelniania., powstały pierwotnie na potrzeby projektu Athena. Był intensywnie rozwijany i obecnie protokół Kerberos wersja 5 jest internetowym standardem , opisanym w RFC15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CA80A6-5165-4577-8676-8D76BAF87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685800"/>
            <a:ext cx="769608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2. bezpieczny serwer wysyła także kopię biletu komputera-klienta do serwera plików. Aby zagwarantować bezpieczeństwo, druga kopia biletu jest szyfrowana przez bezpieczny serwer za pomocą publicznego klucza serwera plików (druga kopia biletu zawiera te same informacje, co kopia pierwsza, czyli informacje o bilecie oraz klucz sesji).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67117A-C129-4735-8E09-E983D928C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57200" y="2286000"/>
            <a:ext cx="8077320" cy="3581280"/>
          </a:xfrm>
          <a:prstGeom prst="rect">
            <a:avLst/>
          </a:prstGeom>
          <a:ln w="0">
            <a:noFill/>
          </a:ln>
        </p:spPr>
      </p:pic>
      <p:sp>
        <p:nvSpPr>
          <p:cNvPr id="55" name=""/>
          <p:cNvSpPr/>
          <p:nvPr/>
        </p:nvSpPr>
        <p:spPr>
          <a:xfrm>
            <a:off x="451440" y="380880"/>
            <a:ext cx="801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tym rysunku pokazaliśmy sposób, w jaki bezpieczny serw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zesyła bilet do serwera plikó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3EE38D-88AF-47D9-9B1F-08C93AE4B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685800"/>
            <a:ext cx="761976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Komputer użytkownika i serwer zawierający plik łodzie_żaglowe łączą się i porównują kopie biletów, aby potwierdzić swoją tożsamość. Oprogramowanie sieciowe na komputerze użytkownika szyfruje kopię biletu za pomocą publicznego klucza serwera plików, po czym wysyła go do serwera plików. Serwer plików odszyfrowuje bilet za pomocą prywatnego klucza. Jeśli przesłana przez użytkownika kopia klucza sesji jest taka sama, jak kopia wysłana przez serwer, to serwer plików uwiarygodnia bilet. Jeśli bilety są jednakowe, to użytkownik może się połączyć z serwerem plików. W przeciwnym wypadku serwer plików nie połączy się z użytkowniki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117860-3685-4628-8671-C0531575F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457200"/>
            <a:ext cx="8001000" cy="57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tym rysunku pokazaliśmy sposób porównywania biletów komputera-klienta i serwera plików.</a:t>
            </a:r>
            <a:endParaRPr b="0" lang="en-US" sz="2400" spc="-1" strike="noStrike">
              <a:solidFill>
                <a:srgbClr val="000000"/>
              </a:solidFill>
              <a:latin typeface="Times New Roman"/>
            </a:endParaRPr>
          </a:p>
        </p:txBody>
      </p:sp>
      <p:pic>
        <p:nvPicPr>
          <p:cNvPr id="58" name="Rysunek4" descr=""/>
          <p:cNvPicPr/>
          <p:nvPr/>
        </p:nvPicPr>
        <p:blipFill>
          <a:blip r:embed="rId1"/>
          <a:stretch/>
        </p:blipFill>
        <p:spPr>
          <a:xfrm>
            <a:off x="533520" y="1981080"/>
            <a:ext cx="8020080" cy="3441960"/>
          </a:xfrm>
          <a:prstGeom prst="rect">
            <a:avLst/>
          </a:prstGeom>
          <a:ln w="0">
            <a:noFill/>
          </a:ln>
        </p:spPr>
      </p:pic>
      <p:sp>
        <p:nvSpPr>
          <p:cNvPr id="2" name="PlaceHolder 1"/>
          <p:cNvSpPr>
            <a:spLocks noGrp="1"/>
          </p:cNvSpPr>
          <p:nvPr>
            <p:ph type="sldNum" idx="3"/>
          </p:nvPr>
        </p:nvSpPr>
        <p:spPr/>
        <p:txBody>
          <a:bodyPr/>
          <a:p>
            <a:fld id="{0D253B95-297A-4894-A648-CE185EEC5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609480"/>
            <a:ext cx="7924680" cy="57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Jeśli bilety są jednakowe, to bezpieczny serwer kończy działanie, a użytkownik komunikuje się odtąd z serwerem plików za pośrednictwem bezpiecznego kanału i uzyskuje dostęp do pliku łodzie_żaglowe. Serwer plików, w zależności od swoich ustawień, wyśle ten plik zaszyfrowany za pomocą klucza publicznego użytkownika (przechowywanego na bezpiecznym serwerze), klucza sesji albo w postaci zwykłego pliku tekstoweg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D1C6F4-F90E-4200-A1CD-2E7F14BC25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457200"/>
            <a:ext cx="8001000" cy="58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rysunku pokazane zostały sposoby przesyłania pliku łodzie_żaglowe od serwera plików do komputera-klienta</a:t>
            </a:r>
            <a:endParaRPr b="0" lang="en-US" sz="2400" spc="-1" strike="noStrike">
              <a:solidFill>
                <a:srgbClr val="000000"/>
              </a:solidFill>
              <a:latin typeface="Times New Roman"/>
            </a:endParaRPr>
          </a:p>
        </p:txBody>
      </p:sp>
      <p:pic>
        <p:nvPicPr>
          <p:cNvPr id="61" name="Rysunek5" descr=""/>
          <p:cNvPicPr/>
          <p:nvPr/>
        </p:nvPicPr>
        <p:blipFill>
          <a:blip r:embed="rId1"/>
          <a:stretch/>
        </p:blipFill>
        <p:spPr>
          <a:xfrm>
            <a:off x="452520" y="1916280"/>
            <a:ext cx="8237520" cy="3024000"/>
          </a:xfrm>
          <a:prstGeom prst="rect">
            <a:avLst/>
          </a:prstGeom>
          <a:ln w="0">
            <a:noFill/>
          </a:ln>
        </p:spPr>
      </p:pic>
      <p:sp>
        <p:nvSpPr>
          <p:cNvPr id="2" name="PlaceHolder 1"/>
          <p:cNvSpPr>
            <a:spLocks noGrp="1"/>
          </p:cNvSpPr>
          <p:nvPr>
            <p:ph type="sldNum" idx="3"/>
          </p:nvPr>
        </p:nvSpPr>
        <p:spPr/>
        <p:txBody>
          <a:bodyPr/>
          <a:p>
            <a:fld id="{1FA51F48-8AF8-4157-AB1F-ED71740BA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62120" y="762120"/>
            <a:ext cx="7543800" cy="541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5. Po zakończeniu przesyłania pliku do użytkownika serwer wysyła do bezpiecznego serwera wiadomość z informacją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kończeniu połączenia będącą dla bezpiecznego serwera sygnałem, aby zlikwidować bilet dostępu. Jeśli komputer-klient spróbuje użyć tego samego biletu dostępu, aby znowu uzyskać dostęp do tego pliku, to bezpieczny serwer uniemożliwi komputerowi-klientowi uzyskanie dostęp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0C17F1-8C26-44E0-B93A-B897C2E9A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2120" y="762120"/>
            <a:ext cx="7543800" cy="541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Jak już wspomnieliśmy, serwer Kerberos jest jedynym bezpiecznym serwerem w sieci obsługiwanej przez system Kerberos. Innym sposobem zrozumienia takiego rozwiązania jest potraktowanie tego systemu jako metody weryfikowania tożsamości użytkowników (stacji roboczych albo serwerów sieciowych) w sieciach otwartych (nie zabezpieczonyc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9233E9-6357-4211-A337-23960F532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772400" cy="541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eryfikacja tożsamości użytkowników w systemie Kerberos jest dokonywana bez użycia mechanizmów uwiarygodniania systemu operacyjnego odległego komputera głównego i jego adresów oraz nie wymaga, aby wszystkie komputery główne w sieci były fizycznie wyposażone w systemy ochrony. Co więcej, system Kerberos zakłada, że każdy użytkownik może odczytywać i modyfikować pakiety przesyłane w sieci oraz dodawać nowe. Innymi słowy, w systemie tym cała sieć, oprócz serwera Kerberos, jest traktowana jako jeden wielki obszar zwiększonego ryzy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ystem dopuszcza możliwość podglądania wszystkich transakcji przez hakerów i ich ciągłe próby włamania się do siec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97E366-76FD-413D-AED9-CB50B6A4C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3520" y="304920"/>
            <a:ext cx="807696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ystem Kerberos dokonuje uwiarygodniania transakcji działając zgodnie z tymi niedoskonałymi założeniami. System ten jest po prostu bezpieczną dodatkową usługą uwiarygodniania. Uwiarygodnianie transakcji jest przeprowadzane przy użyciu tradycyjnych metod kryptograficznych, czyli z użyciem wspólnego klucza tajnego. Należy pamiętać, że jest to klucz wymieniany między dwiema stronami połączenia za pośrednictwem bezpiecznego kanału jeszcze przed rozpoczęciem przesyłania danych. Klucze te są określane mianem wspólnych kluczy tajnych, ponieważ podczas ich używania poufne informacje są</a:t>
            </a:r>
            <a:r>
              <a:rPr b="1" lang="pl-PL" sz="2400" spc="-1" strike="noStrike">
                <a:solidFill>
                  <a:srgbClr val="000000"/>
                </a:solidFill>
                <a:latin typeface="Times New Roman"/>
              </a:rPr>
              <a:t> wspólne</a:t>
            </a:r>
            <a:r>
              <a:rPr b="0" lang="pl-PL" sz="2400" spc="-1" strike="noStrike">
                <a:solidFill>
                  <a:srgbClr val="000000"/>
                </a:solidFill>
                <a:latin typeface="Times New Roman"/>
              </a:rPr>
              <a:t> dla dwóch (lub więcej) stron. Nie można mylić tego klucza z kluczem prywatnym używanym w systemach kryptograficznych. Klucza prywatnego nie powinien znać nikt oprócz użytkownika, do którego należy ten klucz, a jak już poprzednio wspomniano, wspólny klucz tajny znają co najmniej dwie strony (użytkownik i ser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71DED8-E646-4CDC-A0DF-CD33C546A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533520"/>
            <a:ext cx="7619760" cy="58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Black"/>
              </a:rPr>
              <a:t>Kerbero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u="sng">
                <a:solidFill>
                  <a:srgbClr val="000000"/>
                </a:solidFill>
                <a:uFillTx/>
                <a:latin typeface="Times New Roman"/>
              </a:rPr>
              <a:t>Jak to działa ?</a:t>
            </a:r>
            <a:r>
              <a:rPr b="0" lang="pl-PL" sz="2400" spc="-1" strike="noStrike">
                <a:solidFill>
                  <a:srgbClr val="000000"/>
                </a:solidFill>
                <a:latin typeface="Times New Roman"/>
              </a:rPr>
              <a:t> - w systemie Kerberos używa się jednego komputera wyposażonego w niezwykle sprawne zabezpieczenia, który może być umieszczony w pokoju chronionym przez 24 godziny na dobę. Na komputerze tym znajdują się informacje o hasłach i prawach dostępu każdego użytkownika w systemie(w instytucie MIT komputer ten nosi nazwę kerberos.mit.edu).Wszystkie komputery i użytkownicy sieci działają na podstawie danych dostarczonych przez ten serwer. Ten zabezpieczony serwer zwany bezpiecznym serwerem, jest jedynym serwerem w sieci, który może dostarczać programom sieciowym informacje związane z dostępe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83C843-729C-4F92-A9C9-C8DC7A14E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Black"/>
              </a:rPr>
              <a:t>Proces uwiarygodniania w systemie Kerberos</a:t>
            </a:r>
            <a:endParaRPr b="0" lang="en-US" sz="3600" spc="-1" strike="noStrike">
              <a:solidFill>
                <a:srgbClr val="000000"/>
              </a:solidFill>
              <a:latin typeface="Times New Roman"/>
            </a:endParaRPr>
          </a:p>
        </p:txBody>
      </p:sp>
      <p:sp>
        <p:nvSpPr>
          <p:cNvPr id="67" name=""/>
          <p:cNvSpPr/>
          <p:nvPr/>
        </p:nvSpPr>
        <p:spPr>
          <a:xfrm>
            <a:off x="685800" y="1981080"/>
            <a:ext cx="7696080" cy="41911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Jak wspomnieliśmy wcześniej, bezpieczny serwer system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erberos uwiarygodnia każdą transakcję przed jej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prowadzeniem w sieci. Jest to, co więcej, jedyny serw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sieci mogący uwiarygodniać transakc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u="sng">
                <a:solidFill>
                  <a:srgbClr val="000000"/>
                </a:solidFill>
                <a:uFillTx/>
                <a:latin typeface="Times New Roman"/>
              </a:rPr>
              <a:t>Procedura uwiarygodniania przebiega następująco</a:t>
            </a:r>
            <a:r>
              <a:rPr b="0" lang="pl-P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1) komputer-klient wysyła do serwera uwiarygodnian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ezpiecznego serwera systemu Kerberos) żądanie wydan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u upoważnienia do uzyskania dostępu do określo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rwer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0AEE21-D8C2-4D6F-B5B5-46F77BCE0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228600"/>
            <a:ext cx="7925040" cy="5715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2) serwer uwiarygodniania sprawdza prawa dostęp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omputera-klienta i określa, czy komputer-klient j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prawniony do uzyskania dostępu do danego serwera i j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zasobó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3) jeśli komputer-klient nie ma praw dostępu do serwera lu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kreślonych zasobów, to serwer uwiarygodniania odrzu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żądanie komputera-klienta, co oznacza,</a:t>
            </a:r>
            <a:r>
              <a:rPr b="1" lang="pl-PL" sz="2400" spc="-1" strike="noStrike">
                <a:solidFill>
                  <a:srgbClr val="000000"/>
                </a:solidFill>
                <a:latin typeface="Times New Roman"/>
              </a:rPr>
              <a:t> </a:t>
            </a:r>
            <a:r>
              <a:rPr b="0" lang="pl-PL" sz="2400" spc="-1" strike="noStrike">
                <a:solidFill>
                  <a:srgbClr val="000000"/>
                </a:solidFill>
                <a:latin typeface="Times New Roman"/>
              </a:rPr>
              <a:t>że</a:t>
            </a:r>
            <a:r>
              <a:rPr b="1" lang="pl-PL" sz="2400" spc="-1" strike="noStrike">
                <a:solidFill>
                  <a:srgbClr val="000000"/>
                </a:solidFill>
                <a:latin typeface="Times New Roman"/>
              </a:rPr>
              <a:t> </a:t>
            </a:r>
            <a:r>
              <a:rPr b="0" lang="pl-PL" sz="2400" spc="-1" strike="noStrike">
                <a:solidFill>
                  <a:srgbClr val="000000"/>
                </a:solidFill>
                <a:latin typeface="Times New Roman"/>
              </a:rPr>
              <a:t>nie wysyła bilet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do komputera-kli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4) jeśłi komputer-klient ma prawo dostępu, to serw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wiarygodniania daje mu odpowiednie upoważnien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kreślane zazwyczaj jako bilet) zaszyfrowane przy użyci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publicznego klucza komputera-klienta; upoważnienia składaj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ię z biletu dostępu do serwera z zasobami oraz tymczasow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ucza szyfrowan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E39375-74CD-408A-9B17-8D4E6B7EE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43880" y="533520"/>
            <a:ext cx="82306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5) serwer uwiarygodniania szyfruje bilet (zawierający zarów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informacje o bilecie, jak i klucz sesji) przy użyciu publicz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ucza serwera z zasobami, a następnie wysyła zaszyfrow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w ten sposób bilet do serwera zasobów, który z kole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dszyfrowuje wiadomość i czeka na połączen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omputera-kli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6) następnie komputer-klient szyfruje klucz sesji przy użyci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ucza publicznego serwera zasobów i wysyła do niego bil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kładający się z informacji identyfikujących komputer-kl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raz z zaszyfrowanej kopii klucza sesj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3A6F90-B802-4437-9ACF-41E9734BA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60948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7)</a:t>
            </a:r>
            <a:r>
              <a:rPr b="1" lang="pl-PL" sz="2400" spc="-1" strike="noStrike">
                <a:solidFill>
                  <a:srgbClr val="000000"/>
                </a:solidFill>
                <a:latin typeface="Times New Roman"/>
              </a:rPr>
              <a:t> </a:t>
            </a:r>
            <a:r>
              <a:rPr b="0" lang="pl-PL" sz="2400" spc="-1" strike="noStrike">
                <a:solidFill>
                  <a:srgbClr val="000000"/>
                </a:solidFill>
                <a:latin typeface="Times New Roman"/>
              </a:rPr>
              <a:t>serwer zasobów odszyfrowuje wiadomość zawierającą klucz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 przy użyciu własnego klucza prywatne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sprawdza klucz sesji nadesłany przez komputer-klient oraz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ucz już uzyskany od serwera uwiarygodnian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jeśli klucze są identyczne,</a:t>
            </a:r>
            <a:r>
              <a:rPr b="1" lang="pl-PL" sz="2400" spc="-1" strike="noStrike">
                <a:solidFill>
                  <a:srgbClr val="000000"/>
                </a:solidFill>
                <a:latin typeface="Times New Roman"/>
              </a:rPr>
              <a:t> </a:t>
            </a:r>
            <a:r>
              <a:rPr b="0" lang="pl-PL" sz="2400" spc="-1" strike="noStrike">
                <a:solidFill>
                  <a:srgbClr val="000000"/>
                </a:solidFill>
                <a:latin typeface="Times New Roman"/>
              </a:rPr>
              <a:t>to serwer</a:t>
            </a:r>
            <a:r>
              <a:rPr b="1" lang="pl-PL" sz="2400" spc="-1" strike="noStrike">
                <a:solidFill>
                  <a:srgbClr val="000000"/>
                </a:solidFill>
                <a:latin typeface="Times New Roman"/>
              </a:rPr>
              <a:t> </a:t>
            </a:r>
            <a:r>
              <a:rPr b="0" lang="pl-PL" sz="2400" spc="-1" strike="noStrike">
                <a:solidFill>
                  <a:srgbClr val="000000"/>
                </a:solidFill>
                <a:latin typeface="Times New Roman"/>
              </a:rPr>
              <a:t>zasobów uwiarygodn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omputer-kl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komputer-klient także może użyć klucza sesji w cel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wiarygodnienia serwe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cy mogą odtąd używać klucza sesji do symetrycz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zyfrowania wiadomości przesyłanych między sobą lub mog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mienić oddzielne klucze podscsji, których będą używać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zyfrowania informacj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62D4B6-8F83-4EFD-9E97-E9701771D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33520" y="53352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ystem Kerberos używa jednego lub kilku serweró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wiarygodniania (bezpiecznych serwerów) działających 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bezpieczonych fizycznie komputerach głównych. Serwe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wiarygodniania zawierają bazę danych z informacjami 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kach (innymi słowy, baza danych zawiera sp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szystkich użytkowników i serwerów), a także wspólny klucz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ajny i klucz publiczny każdego użytkownika. Biblioteki źródłowe dostarczają mechanizmów szyfrowania i implementują protokół Kerberos. Aby wprowadzić funkcję uwiarygodnian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syłanych danych, typowa aplikacja sieciowa wysyła jed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ub dwa zapytania do biblioteki Kerberos, po których uzyskuj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formacje niezbędne do uwiarygodnienia. Wprowadzanie 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 odwołań do biblioteki Kerberos nosi nazwę</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erberyzowania</a:t>
            </a:r>
            <a:r>
              <a:rPr b="0" lang="pl-PL" sz="2400" spc="-1" strike="noStrike">
                <a:solidFill>
                  <a:srgbClr val="000000"/>
                </a:solidFill>
                <a:latin typeface="Times New Roman"/>
              </a:rPr>
              <a:t> aplikacj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9C691B-C8A2-4CC8-9003-98794A40A0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Znane słabe punkty systemu KERBEROS</a:t>
            </a:r>
            <a:endParaRPr b="0" lang="en-US" sz="3600" spc="-1" strike="noStrike">
              <a:solidFill>
                <a:srgbClr val="000000"/>
              </a:solidFill>
              <a:latin typeface="Times New Roman"/>
            </a:endParaRPr>
          </a:p>
        </p:txBody>
      </p:sp>
      <p:sp>
        <p:nvSpPr>
          <p:cNvPr id="73" name=""/>
          <p:cNvSpPr/>
          <p:nvPr/>
        </p:nvSpPr>
        <p:spPr>
          <a:xfrm>
            <a:off x="533520" y="198108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Jak wiadomo, system Kerberos wydaje uwiarygodnienie 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stawie identyfikatora logowania użytkownika i wspól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lucza tajnego. Z takim rozwiązaniem wiąże się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iebezpieczeństwo oszukania serwera przez hakera. Innym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łowy, włamywacz może sprawić, że bezpieczny serwer będz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o traktował jak uprawnionego użytkownika. Osoba taka moż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zyskać wszelkie prawa dostępu. Na przykład można wysłać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ezpiecznego serwera wiadomość z prośbą o przyznanie praw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ostępu do serwera plików. Haker może przechwycić tak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iadomość i przesłać ją następnie do bezpiecznego serwe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tóry uzna, że to uprawniony użytkownik zażądał uwiarygodnieni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9D7E9E-7B5C-4329-807F-0C9DF47E4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24520" y="685800"/>
            <a:ext cx="82504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wyeliminować taką możliwość, programiści projekt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hena wprowadzili do niego mechanizm</a:t>
            </a:r>
            <a:r>
              <a:rPr b="1" lang="pl-PL" sz="2400" spc="-1" strike="noStrike">
                <a:solidFill>
                  <a:srgbClr val="000000"/>
                </a:solidFill>
                <a:latin typeface="Times New Roman"/>
              </a:rPr>
              <a:t> znaczników czas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Mechanizm ten gwarantuje, że wszystkie wiadomoś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otrzymywane przez bezpieczny serwer zawierają datę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ezpieczny serwer odrzuca wszystkie te wiadomości, które s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starzałe o co najmniej 5 minut. Mechanizm znacznikó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czasu pomaga zapobiec wielu działaniom osób nieuprawniony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Na rysunku  pokazano sposób odrzucania przestarzał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iletów przez serwer uwiarygodnian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38989F-999D-49DE-8CD4-617531446C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28480" y="609480"/>
            <a:ext cx="81208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dal jednak system Kerberos pozostaje niezwykle wrażliw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 innym względem — rozszyfrowywania poza sieci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łamywacz może przechwycić wiadomość z odpowiedzi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rwera przesłaną do użytkownika (zawierającą bilet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szyfrowaną przy użyciu publicznego klucza użytkowni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stępnie przy użyciu słownika może on próbować odszyfrowa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iadomość poprzez odgadnięcie klucza prywat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łamywacz może obserwować przesyłane wiadomości o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łuższego czasu i w celu zdobycia klucza prywatnego moż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stosować metodę ataku czasowego. Jeśli mu się powiedzie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dczyta wiadomość (znacznik czasu lub adres sieciowy),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że złamać klucz prywatn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6CEEBE-BCCF-4085-85C8-F9DF5D5C7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25240" y="609480"/>
            <a:ext cx="65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wer uwiarygodniania odrzuca przestarzałe bilety</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33520" y="1981080"/>
            <a:ext cx="7619760" cy="3276720"/>
          </a:xfrm>
          <a:prstGeom prst="rect">
            <a:avLst/>
          </a:prstGeom>
          <a:ln w="0">
            <a:noFill/>
          </a:ln>
        </p:spPr>
      </p:pic>
      <p:sp>
        <p:nvSpPr>
          <p:cNvPr id="2" name="PlaceHolder 1"/>
          <p:cNvSpPr>
            <a:spLocks noGrp="1"/>
          </p:cNvSpPr>
          <p:nvPr>
            <p:ph type="sldNum" idx="3"/>
          </p:nvPr>
        </p:nvSpPr>
        <p:spPr/>
        <p:txBody>
          <a:bodyPr/>
          <a:p>
            <a:fld id="{A1E711E6-F5B7-4AEA-9EF0-BFAA531DD7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Konieczne założenia czynione przez system</a:t>
            </a:r>
            <a:endParaRPr b="0" lang="en-US" sz="3600" spc="-1" strike="noStrike">
              <a:solidFill>
                <a:srgbClr val="000000"/>
              </a:solidFill>
              <a:latin typeface="Times New Roman"/>
            </a:endParaRPr>
          </a:p>
        </p:txBody>
      </p:sp>
      <p:sp>
        <p:nvSpPr>
          <p:cNvPr id="79" name=""/>
          <p:cNvSpPr/>
          <p:nvPr/>
        </p:nvSpPr>
        <p:spPr>
          <a:xfrm>
            <a:off x="599040" y="1905120"/>
            <a:ext cx="7558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pisaliśmy najważniejsze słabe punkty systemu Kerber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prócz nich istnieje kilka założeń czynionych przez 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erberos, określających środowisko, w którym może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łaściwie funkcjonować. Mogą one odsłonić prz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łamywaczami potencjalne czułe punkty systemu.</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739C5D-49E9-499E-A6C6-10151A21E3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38080" y="838080"/>
            <a:ext cx="7391520" cy="51818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Times New Roman"/>
              </a:rPr>
              <a:t> </a:t>
            </a:r>
            <a:r>
              <a:rPr b="0" lang="pl-PL" sz="2400" spc="-1" strike="noStrike" u="sng">
                <a:solidFill>
                  <a:srgbClr val="000000"/>
                </a:solidFill>
                <a:uFillTx/>
                <a:latin typeface="Times New Roman"/>
              </a:rPr>
              <a:t>Dlaczego łatwo jest kontrolować serwer Kerberos ?</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la serwerów działających w systemie Kerberos oraz pracujących w nim użytkowników wszystkie pozostałe elementy sieci są niepewne. Innymi słowy, system Kerberos działa na podstawie zasady upraszczania — łatwo jest w nim utrzymać jeden całkowicie bezpieczny serwer, co jest sytuacją odwrotną do zabezpieczania wszystkich serwerów w sie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3F1386-A6E5-4047-9EE1-0DA55CB04D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49640" y="609480"/>
            <a:ext cx="81558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ystem Kerberos nie oferuje możliwości obrony przed ataka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e strony usług. W systemie tym włamywacz może z łatwości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niemożliwić aplikacji wzięcie udziału we właściwy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prowadzeniu operacji uwiarygodniania. Wykrywanie atakó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tego typu (z których kilka może się wydawać normalnym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ytuacjami awaryjnymi w systemie) i zapobieganie im należ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o obowiązków administratorów i użytkownikó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Ponieważ serwer Kerberos zakłada, że wspólny klucz taj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jest rzeczywiście tajny, użytkownicy w tym systemie musz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ezwzględnie chronić ten klucz. W wypadku skradzenia kluc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żytkownika może on posłużyć do podszycia się po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ka lub dowolny ser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87B2FA-191B-4C9A-A719-2E8199ACD9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26680" y="762120"/>
            <a:ext cx="81907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System Kerberos nie chroni przed atakami polegającymi 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dgadywaniu hasła. Jeśli użytkownik wybierze sobie łatwe hasł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o haker może z łatwością zastosować metodę pozasieciowe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aku przy użyciu słownika i wypróbowywać kolejne zawarte 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im słowa. W tej metodzie skopiowane przez hakera wiadomoś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ą poddawane kolejnym próbom odszyfrowania. Jak wiadom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k szyfruje wiadomości przy użyciu klucz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enerowanego przez system Kerberos na podstawie hasł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ka. Teoretycznie, po dostatecznie długim czasie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 odrobinie szczęścia, haker może odczytać hasł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żytkownika</a:t>
            </a:r>
            <a:r>
              <a:rPr b="1" lang="pl-PL" sz="2400" spc="-1" strike="noStrike">
                <a:solidFill>
                  <a:srgbClr val="000000"/>
                </a:solidFill>
                <a:latin typeface="Times New Roman"/>
              </a:rPr>
              <a:t> </a:t>
            </a:r>
            <a:r>
              <a:rPr b="0" lang="pl-PL" sz="2400" spc="-1" strike="noStrike">
                <a:solidFill>
                  <a:srgbClr val="000000"/>
                </a:solidFill>
                <a:latin typeface="Times New Roman"/>
              </a:rPr>
              <a:t>ze skopiowanych wiadomości.</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6781DF-9519-4237-BCCE-9B483369D7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228600"/>
            <a:ext cx="8229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pl-PL" sz="3600" spc="-1" strike="noStrike">
                <a:solidFill>
                  <a:srgbClr val="000000"/>
                </a:solidFill>
                <a:latin typeface="Arial Black"/>
              </a:rPr>
              <a:t>KERBEROS - PODSUMOWANI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ystem Kerberos dobrze sprawdza się w środowiskach, dla których został zaprojektowany. Dla innego rodzaju środowisk należałoby wprowadzić w nim pewne modyfikacje dostosowujące go do określonej specyfiki pracy.Ostatnia wersja 5 systemu Kerberos doczekała się implementacji na róznorakie typy komputerów i dla różnych systemów operacyjnych. Są wśród nich komputery Sun z systemem Solaris, komputery HP9000 z systemem HP-UX, IBM PowerPC z systemem AIX, komputery Macintosh i PPC z systemem MS Windo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żliwe jest że w przyszłości powstaną nowe systemy uwierzytelniania bądź nowe wersje systemu Kerberos dostosowane do specyfiki systemów otwartych tak, że możliwe będzie dołączenie kerberosa do sytemu Unix i uznanie go za jeden ze standartowych elementów tego systemu.</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252620-00AB-45AA-9658-3F87884D96F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838080"/>
            <a:ext cx="7391520" cy="51818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erberos został zaprojektowany do uwierzytelniania żądań użytkowników dotyczących zasobów sieci. Jest oparty na koncepcji zaufanej strony trzeciej, przeprowadzającej weryfikację użytkowników oraz usług. W protokole tym ta zaufana strona trzecia nosi nazwę KDC (Key Distribution Center - Centrum dystrybucji kluczy), czasami określanego także jako serwer uwierzytelniania. Podstawowym zastosowaniem protokołu Kerberos jest weryfikacja, czy użytkownicy oraz usługi sieci są naprawdę tymi, za kogo się podają.</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04516B-C184-4D2F-A3E2-7F743B8FA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380880"/>
            <a:ext cx="8001000" cy="601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400" spc="-1" strike="noStrike">
                <a:solidFill>
                  <a:srgbClr val="000000"/>
                </a:solidFill>
                <a:latin typeface="Times New Roman"/>
              </a:rPr>
              <a:t>Jeśli użytkownik sieci obsługiwanej przez system Kerberos chce uzyskać dostęp do pliku lub innego serwera sieciowego udostępniającego zasoby, to musi najpierw uzyskać pozwolenie od bezpiecznego serwera. Oto przykł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1. Użytkownik żąda dostępu do pliku łodzie_żaglowe za pośrednictwem wiadomości z podpisem cyfrowym, utworzonej za pomocą swojego </a:t>
            </a:r>
            <a:r>
              <a:rPr b="1" lang="pl-PL" sz="2400" spc="-1" strike="noStrike">
                <a:solidFill>
                  <a:srgbClr val="000000"/>
                </a:solidFill>
                <a:latin typeface="Times New Roman"/>
              </a:rPr>
              <a:t>klucza prywatnego</a:t>
            </a:r>
            <a:r>
              <a:rPr b="0" lang="pl-PL" sz="2400" spc="-1" strike="noStrike">
                <a:solidFill>
                  <a:srgbClr val="000000"/>
                </a:solidFill>
                <a:latin typeface="Times New Roman"/>
              </a:rPr>
              <a:t>, i szyfruje ją za pomocą </a:t>
            </a:r>
            <a:r>
              <a:rPr b="1" lang="pl-PL" sz="2400" spc="-1" strike="noStrike">
                <a:solidFill>
                  <a:srgbClr val="000000"/>
                </a:solidFill>
                <a:latin typeface="Times New Roman"/>
              </a:rPr>
              <a:t>klucza publicznego</a:t>
            </a:r>
            <a:r>
              <a:rPr b="0" lang="pl-PL" sz="2400" spc="-1" strike="noStrike">
                <a:solidFill>
                  <a:srgbClr val="000000"/>
                </a:solidFill>
                <a:latin typeface="Times New Roman"/>
              </a:rPr>
              <a:t> serwera. Są dwa powody, dla których żądanie dostępu jest realizowane za pomocą zaszyfrowanej wiadomości opatrzonej podpisem cyfrowym. Po pierwsze, szyfrowanie z użyciem klucza sesji gwarantuje (w większym stopniu), że tylko bezpieczny serwer będzie mógł odczytać żądanie. Po drugie,bezpieczny serwer za pomocą podpisu cyfrowego określa, czy wiadomość została wysłana przez uprawnionego użytkownika(a nie haker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501FE1-1AD9-408F-99D3-17EB58472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6201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programowanie sieciowe wysyła zaszyfrowaną wiadomość do bezpiecznego serwera</a:t>
            </a:r>
            <a:endParaRPr b="0" lang="en-US" sz="2400" spc="-1" strike="noStrike">
              <a:solidFill>
                <a:srgbClr val="000000"/>
              </a:solidFill>
              <a:latin typeface="Times New Roman"/>
            </a:endParaRPr>
          </a:p>
        </p:txBody>
      </p:sp>
      <p:pic>
        <p:nvPicPr>
          <p:cNvPr id="47" name="Rysunek1" descr=""/>
          <p:cNvPicPr/>
          <p:nvPr/>
        </p:nvPicPr>
        <p:blipFill>
          <a:blip r:embed="rId1"/>
          <a:stretch/>
        </p:blipFill>
        <p:spPr>
          <a:xfrm>
            <a:off x="380880" y="1981080"/>
            <a:ext cx="8460000" cy="3686400"/>
          </a:xfrm>
          <a:prstGeom prst="rect">
            <a:avLst/>
          </a:prstGeom>
          <a:ln w="0">
            <a:noFill/>
          </a:ln>
        </p:spPr>
      </p:pic>
      <p:sp>
        <p:nvSpPr>
          <p:cNvPr id="2" name="PlaceHolder 1"/>
          <p:cNvSpPr>
            <a:spLocks noGrp="1"/>
          </p:cNvSpPr>
          <p:nvPr>
            <p:ph type="sldNum" idx="3"/>
          </p:nvPr>
        </p:nvSpPr>
        <p:spPr/>
        <p:txBody>
          <a:bodyPr/>
          <a:p>
            <a:fld id="{60778D34-3B0D-4860-96D1-706F5A0B3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85800"/>
            <a:ext cx="7620120" cy="548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bezpieczny serwer z kolei analizuje wiadomość z żądaniem komputera-klienta. Serwer używa podpisu cyfrowego użytkownika do zweryfikowania jego tożsamości oraz sprawdzenia, czy użytkownik znajduje się na liście użytkowników uprawnionych do uzyskania dostępu do pliku łodzie_żaglow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jeśli użytkownik ma prawa dostępu do pliku łodzie_żaglowe na serwerze, to bezpieczny serwer połączy użytkownika z serwerem plików i wyśle do tego serwera wiadomość, że użytkownik ma prawo dostępu do pliku.</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BA4BD9-B4E4-47C8-87BE-C3334CE67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762120"/>
            <a:ext cx="7467480" cy="50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y rozpocząć komunikowanie się użytkownika i serwera plików, bezpieczny serwer wykonuje kilka operacj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ezpieczny serwer wysyła do użytkownika unikatowy klucz zwany biletem. Aby zagwarantować bezpieczeństwo, kopia tego biletu jest szyfrowana przez bezpieczny serwer za pomocą klucza publicznego użytkownika. Bilet zawiera informacje o dostępie oraz </a:t>
            </a:r>
            <a:r>
              <a:rPr b="1" lang="en-US" sz="2400" spc="-1" strike="noStrike">
                <a:solidFill>
                  <a:srgbClr val="000000"/>
                </a:solidFill>
                <a:latin typeface="Times New Roman"/>
              </a:rPr>
              <a:t>klucz sesji</a:t>
            </a:r>
            <a:r>
              <a:rPr b="0" lang="en-US" sz="2400" spc="-1" strike="noStrike">
                <a:solidFill>
                  <a:srgbClr val="000000"/>
                </a:solidFill>
                <a:latin typeface="Times New Roman"/>
              </a:rPr>
              <a:t>. Klucz sesji jest to nieskomplikowany klucz do szyfrowania służący do połączenia się z serwerem plikó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D1F921-297E-4B09-A411-C3AF59D2D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85800"/>
            <a:ext cx="7620120" cy="548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Rysunek2" descr=""/>
          <p:cNvPicPr/>
          <p:nvPr/>
        </p:nvPicPr>
        <p:blipFill>
          <a:blip r:embed="rId1"/>
          <a:stretch/>
        </p:blipFill>
        <p:spPr>
          <a:xfrm>
            <a:off x="304920" y="1447920"/>
            <a:ext cx="8273880" cy="3868560"/>
          </a:xfrm>
          <a:prstGeom prst="rect">
            <a:avLst/>
          </a:prstGeom>
          <a:ln w="0">
            <a:noFill/>
          </a:ln>
        </p:spPr>
      </p:pic>
      <p:sp>
        <p:nvSpPr>
          <p:cNvPr id="52" name=""/>
          <p:cNvSpPr/>
          <p:nvPr/>
        </p:nvSpPr>
        <p:spPr>
          <a:xfrm>
            <a:off x="528480" y="457200"/>
            <a:ext cx="564120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wer szyfruje, a następnie wysyła bilet d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putera-klien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39DE59-5751-4766-B9C5-4E79A762D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10:32:48Z</dcterms:created>
  <dc:creator>Sanofi~Synthelabo</dc:creator>
  <dc:description/>
  <dc:language>en-US</dc:language>
  <cp:lastModifiedBy>Piotr Suchanski</cp:lastModifiedBy>
  <cp:lastPrinted>2000-12-18T13:05:48Z</cp:lastPrinted>
  <dcterms:modified xsi:type="dcterms:W3CDTF">2001-01-09T07:09:08Z</dcterms:modified>
  <cp:revision>43</cp:revision>
  <dc:subject/>
  <dc:title>Bez tytułu slajdu</dc:title>
</cp:coreProperties>
</file>